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D1E-2D48-4E49-AEE8-0E9F30AF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60B-18C5-4579-B8AC-DCD1E27B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678-B41C-4FAB-85DE-D23026E9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A1FE-06DB-4C1D-9C2E-E6F9E8AB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83D8-F65C-4B2C-ACCC-31CE46F35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BC03-4B33-4843-AE96-1C7DF82B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9A78-44D8-45C2-A66C-9C9E87AB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0F63-38E7-44B3-811D-ED1A22CE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C929-1CE3-4899-81EA-3D5DD87C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B5EC-4CCA-492A-852D-D1009455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63AF-BD7E-4ED0-A60C-9DCA7D2F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C9D-1DC6-4C5B-95A3-51431C82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E4A9-8D4F-4252-B1C0-88EB9FF6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D98B-6FE9-44D6-9875-7EC53829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D0A3-BD3D-4DCF-8408-948EFFB6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E4BB-8727-4B41-B60F-7F90E96E4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68EB-8019-424C-9A10-213EC2E0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04D2-3CA5-472A-9F46-391F41DC9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FA471-4502-4380-B173-B0D52F98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019AC-3AAC-4427-A3F9-A043F513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A203-D11C-4E6A-B7D3-C77033FC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AA03-5558-4938-A8DE-0DA00CE7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F19A-0A45-4434-8388-5BF43BF0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A032-4DCA-4551-957C-CF6CC535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5453A-69A0-4B58-9C56-E3714EED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4C960-BF9B-42EC-93CF-45BE4F67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054A6-BF45-4AB9-ABAA-F6DC2622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D3DE-5B5B-42CA-8A06-9FE321D7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8163-8D4F-4FF4-8BEE-38055F22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8C12B-BD6B-4277-83C9-3E163016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3B52A-7B7A-4D38-94D8-33903427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CD82-9EAB-42CD-8C61-8220E48C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A1B95-31EF-4E20-994E-50745095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2C61-B26C-4BCE-9D27-D4C3E791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463D-D3E1-4A99-929D-C3DD3501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6C14B-FDA8-4CB7-9A3B-613F329B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854A9-C409-40D6-8B32-633B0CC0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BA059-A53F-4E5B-8164-E868A5FF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1A626-D45A-479A-ADD4-83467B3C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008FE-5E79-431D-BBC7-9E6567C4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061A8-3EF8-47C6-979F-5588581B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B561B-E713-4955-A52F-388AE8B8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398B1-2334-485D-A0B5-009DABCB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D28B3-F818-42B7-B7B6-C91D3153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AEE-6170-450B-90BF-B10D7704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DD5C2-C36A-4D04-A188-6CF55D3C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42BAA-1A5A-4FDA-A32E-16CB82C1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CCEF90-D1B5-4000-ADB5-E62ADFD6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9E602-DB1B-4850-B2AE-E0D22393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39384-8671-409D-A94B-F2CA0B1B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7DD3E-74BD-4E92-8E6E-BD4F281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F4942-B592-43EC-968F-686A8409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237AC-6DE3-4C7F-88C8-E8D3840F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9247E-3F2C-423D-A3E7-2C572BB9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F0C57-3D20-4277-BDBC-46AB143F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39E2-091E-4DFA-B438-2632A29A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056CB-49BF-4F63-910B-06E9A4AD3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561AB-E6D1-47D1-B985-C31A0A3D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BF1E5-A005-4C98-ABD7-B74B8C80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1703A-E504-409B-BBCE-B99B6670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274DA-E25A-4727-8ECA-4F75AE09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A1CFE-3D5C-4249-8E2B-389AE325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99348-92C6-4359-9739-D1B58CE2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4CB93-35CB-4F4E-A06E-A4791AF1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E66F9-3D9A-46C1-BF88-B8560B4A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BE7CF-550C-40D7-945C-BACAE33B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990-3025-48A5-9CDB-D1C60D15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20455-F166-4B97-AC20-5DAF25A9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F27E-F97D-45E0-96A8-747B86C9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5E550-4090-4592-8E4B-8C787ABE2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3D598-8D53-4E02-ADD1-5AF9700B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D1A66-D616-41DD-829F-DD64A57F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96E4F-F969-499F-AB5C-599C3107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81BF8-1EE7-43D2-A180-28CB9CAC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BA46A-C55A-4B51-85F8-1E963F37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019A9-2FEE-4D77-943B-C0A50A2D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A682E-23FD-484D-A922-8AC380AE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EE0-9B5F-44F8-B7CF-1CE5E0E1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7C24D-7042-4CDC-9622-40FD8006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FAAEC-8F1F-40E2-BE6F-2B3310C7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7F324-8595-4C6E-B3E3-7EF8BD85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21B13-BEBB-43EB-B0EF-C024E495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EEE38-678C-4FD7-8873-BA8DD364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9EAF1-DC93-4D00-B5FA-471B4CED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10833-77BD-4E9E-9B3F-1D29CC09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44388-3EB6-4157-A4D8-9BA14271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3B191-794A-487D-A25A-6B1E61DF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CA8DC-C30B-484E-B831-A7675D87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A29-AD28-41F1-B299-A88AA9B8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B0312-84C3-4906-B145-C54CBBA5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1F9EE-7D2C-427D-8478-9E282420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EE375-59F1-49ED-A78E-00771A25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75F80-606C-4D31-82F2-FA9D62A8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AA80C-A34C-4F10-9F08-C8759645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1925E-0B1A-4ED6-ABA9-9A81BB3A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AC6E2-F364-4C09-8AC1-D512FB8B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0DC5-C549-4242-B294-76E1C830856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6600-4A0E-4B9A-879F-CFF676D0E5E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7245-8026-44FD-8DEA-62EE2F0D408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0C2F-04A6-4F37-BD77-0BDF5BB8863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43DF-69CC-4E27-B27D-E482C712E94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17CD-3D9D-4913-A2AA-BB129082DAB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A88E-9FFC-4816-B9A8-4B0E39A9D49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C463-91D2-424B-A307-E56822C4E46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PANPADJUN READING SCHOOL</a:t>
            </a:r>
            <a:endParaRPr b="0" lang="en-US" sz="36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6576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1eeff"/>
                </a:solidFill>
                <a:latin typeface="Georgia"/>
              </a:rPr>
              <a:t>Gauging Student Needs Assessments</a:t>
            </a:r>
            <a:endParaRPr b="0" lang="en-US" sz="36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Evaluate the common mistakes of the students in using the parts of speech in communication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results of the exam will show how the students understand the lesson. It will tell if the topic is to be continue or need to revise 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eorgia"/>
              </a:rPr>
              <a:t>THE END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Rectangle 2" descr=""/>
          <p:cNvPicPr/>
          <p:nvPr/>
        </p:nvPicPr>
        <p:blipFill>
          <a:blip r:embed="rId1"/>
          <a:stretch/>
        </p:blipFill>
        <p:spPr>
          <a:xfrm>
            <a:off x="682560" y="4230720"/>
            <a:ext cx="8217000" cy="2097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By: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anlaroche, Mitzie Rica T.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adilla, Hyacinth Love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Juntilla, Lorelle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Unit Summary 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unit covers eight parts of the speech. It contains a separate lesson on each part of speech including a PowerPoint slide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 will also complete their choice of a journal writing and a poster making describing the parts of speech. They must use their knowledge of the parts of speech to complete these projects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Objectives 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be able to name the basic parts of speech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briefly defines the parts of speech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correctly identifies the parts of speech in a given sentence.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identify the roles each parts of the speech plays in the sentence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Identify parts of speech in a given sentence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The students will select and use various technology tools to accomplish given tasks.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21</a:t>
            </a:r>
            <a:r>
              <a:rPr b="0" lang="en-US" sz="4000" spc="-1" strike="noStrike" baseline="30000">
                <a:solidFill>
                  <a:srgbClr val="c1eeff"/>
                </a:solidFill>
                <a:latin typeface="Georgia"/>
              </a:rPr>
              <a:t>st</a:t>
            </a: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 Century Learning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tudents will develop higher-order and 21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 century skills in this unit as they: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80000"/>
              </a:lnSpc>
              <a:buClr>
                <a:srgbClr val="d6ecff"/>
              </a:buClr>
              <a:buSzPct val="9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se the Essential and Unit Questions in learning and understanding the parts of speech and it’s importance for effective communication with the aid of computers.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80000"/>
              </a:lnSpc>
              <a:buClr>
                <a:srgbClr val="d6ecff"/>
              </a:buClr>
              <a:buSzPct val="9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hare their ideas in front of their classmates and be able to have the qualities as good communicator.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80000"/>
              </a:lnSpc>
              <a:buClr>
                <a:srgbClr val="d6ecff"/>
              </a:buClr>
              <a:buSzPct val="9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Use poster and  in such as computers to have effective communication.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"/>
          <p:cNvGraphicFramePr/>
          <p:nvPr/>
        </p:nvGraphicFramePr>
        <p:xfrm>
          <a:off x="457200" y="2590920"/>
          <a:ext cx="8229600" cy="3727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Project Work begins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s work on projects and complete tasks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ter Project work is completed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ndouts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urnal Writing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mission of Journals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uss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9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er making 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er Presentation</a:t>
                      </a:r>
                      <a:endParaRPr b="1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   </a:t>
            </a: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Assessment Plan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Assessment Timeline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urriculum- Framing Questions 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Essential Questions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How would we communicate if we could only use simple two-word sentences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What is needed for effective oral and written communication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Unit Questions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How does the correct use of various parts of speech  enable us to write sentences, which are interesting and effective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Georgia"/>
              </a:rPr>
              <a:t>Curriculum- Framing Questions</a:t>
            </a:r>
            <a:endParaRPr b="0" lang="en-US" sz="4000" spc="-1" strike="noStrike">
              <a:solidFill>
                <a:srgbClr val="c1eeff"/>
              </a:solidFill>
              <a:latin typeface="Georgi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Content Questions 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What are the parts of speech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eorgia"/>
              </a:rPr>
              <a:t>What does each part do in a sentence?</a:t>
            </a:r>
            <a:endParaRPr b="0" lang="en-US" sz="3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25:15Z</dcterms:created>
  <dc:creator>nave1386</dc:creator>
  <dc:description/>
  <dc:language>en-US</dc:language>
  <cp:lastModifiedBy>nave1386</cp:lastModifiedBy>
  <dcterms:modified xsi:type="dcterms:W3CDTF">2010-09-03T21:48:57Z</dcterms:modified>
  <cp:revision>6</cp:revision>
  <dc:subject/>
  <dc:title>The Building Blocks of Sentences</dc:title>
</cp:coreProperties>
</file>